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06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60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0492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906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760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0492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1906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760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535440"/>
            <a:ext cx="424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5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04920" y="60948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110280"/>
            <a:ext cx="9144000" cy="762120"/>
          </a:xfrm>
          <a:prstGeom prst="rect">
            <a:avLst/>
          </a:prstGeom>
          <a:solidFill>
            <a:srgbClr val="b7d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008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3240" y="653724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5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0280" y="4648320"/>
            <a:ext cx="8686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PowerPoint Lectures for </a:t>
            </a:r>
            <a:br>
              <a:rPr sz="1800"/>
            </a:br>
            <a:r>
              <a:rPr b="1" i="1" lang="en-US" sz="1800" spc="-1" strike="noStrike">
                <a:solidFill>
                  <a:srgbClr val="006699"/>
                </a:solidFill>
                <a:latin typeface="Arial"/>
              </a:rPr>
              <a:t>Biology, Seventh E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90120" y="5273640"/>
            <a:ext cx="275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66"/>
                </a:solidFill>
                <a:latin typeface="Times New Roman"/>
              </a:rPr>
              <a:t>Neil Campbell and Jane Re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6880" y="6095880"/>
            <a:ext cx="27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66"/>
                </a:solidFill>
                <a:latin typeface="Times New Roman"/>
              </a:rPr>
              <a:t>Lectures by Chris Rom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56960"/>
            <a:ext cx="8709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3087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990066"/>
                </a:solidFill>
                <a:latin typeface="Times New Roman"/>
              </a:rPr>
              <a:t>Click to edit the outline text format</a:t>
            </a: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  <a:p>
            <a:pPr lvl="1" marL="379440" indent="0"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94680" algn="ctr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38320" indent="94680" algn="ctr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517760" indent="101520" algn="ctr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517760" indent="1015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517760" indent="1015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04920" y="121896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6535440"/>
            <a:ext cx="424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5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0033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6110280"/>
            <a:ext cx="9144000" cy="762120"/>
          </a:xfrm>
          <a:prstGeom prst="rect">
            <a:avLst/>
          </a:prstGeom>
          <a:solidFill>
            <a:srgbClr val="b7d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008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3240" y="653724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5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0280" y="4648320"/>
            <a:ext cx="8686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PowerPoint Lectures for </a:t>
            </a:r>
            <a:br>
              <a:rPr sz="1800"/>
            </a:br>
            <a:r>
              <a:rPr b="1" i="1" lang="en-US" sz="1800" spc="-1" strike="noStrike">
                <a:solidFill>
                  <a:srgbClr val="006699"/>
                </a:solidFill>
                <a:latin typeface="Arial"/>
              </a:rPr>
              <a:t>Biology, Seventh E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0120" y="5273640"/>
            <a:ext cx="275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66"/>
                </a:solidFill>
                <a:latin typeface="Times New Roman"/>
              </a:rPr>
              <a:t>Neil Campbell and Jane Re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880" y="6095880"/>
            <a:ext cx="27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66"/>
                </a:solidFill>
                <a:latin typeface="Times New Roman"/>
              </a:rPr>
              <a:t>Lectures by Chris Rom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6280" y="156960"/>
            <a:ext cx="8709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www.northland.cc.mn.us/biology/BIOLOGY1111/animations/transport1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06280" y="156960"/>
            <a:ext cx="8709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Chapter 7</a:t>
            </a: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37960" y="1531440"/>
            <a:ext cx="8677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6e0061"/>
                </a:solidFill>
                <a:latin typeface="Times New Roman"/>
              </a:rPr>
              <a:t>Membrane Structure and Function</a:t>
            </a: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96080" y="6477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EF95-1F04-4DD6-A60C-E403F63891F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3429000"/>
            <a:ext cx="746748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d26"/>
                </a:solidFill>
                <a:latin typeface="Monotype Corsiva"/>
              </a:rPr>
              <a:t>Refer to the Student Activity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d26"/>
                </a:solidFill>
                <a:latin typeface="Monotype Corsiva"/>
              </a:rPr>
              <a:t>CD ROM for anim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eeze-fracture studies of the plasma membr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ed the fluid mosaic model of membran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78280" y="6202440"/>
            <a:ext cx="907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7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58080" y="6230880"/>
            <a:ext cx="1189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tracellular 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22960" y="6230880"/>
            <a:ext cx="118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ytoplasmic 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308960" y="2819520"/>
            <a:ext cx="5580720" cy="3375000"/>
            <a:chOff x="1308960" y="2819520"/>
            <a:chExt cx="5580720" cy="3375000"/>
          </a:xfrm>
        </p:grpSpPr>
        <p:pic>
          <p:nvPicPr>
            <p:cNvPr id="225" name="" descr=""/>
            <p:cNvPicPr/>
            <p:nvPr/>
          </p:nvPicPr>
          <p:blipFill>
            <a:blip r:embed="rId1"/>
            <a:stretch/>
          </p:blipFill>
          <p:spPr>
            <a:xfrm>
              <a:off x="2509920" y="3719520"/>
              <a:ext cx="3749760" cy="24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1315080" y="2873520"/>
              <a:ext cx="1042920" cy="244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57520" y="2819520"/>
              <a:ext cx="42195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cell membrane can be split into its two layers, revealing the ultrastructure of the membrane’s interior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308960" y="3286080"/>
              <a:ext cx="930240" cy="244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TECHNIQ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555080" y="3652920"/>
              <a:ext cx="8798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xtracellul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ay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84720" y="4426200"/>
              <a:ext cx="648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tei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02080" y="4932360"/>
              <a:ext cx="9144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ytoplasmic lay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865680" y="4434120"/>
              <a:ext cx="471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Knif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57680" y="4916520"/>
              <a:ext cx="7884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asm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79840" y="5222880"/>
              <a:ext cx="42098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hese SEMs show membrane proteins (the “bumps”) in the two layers,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monstrating that proteins are embedded in the phospholipid bilayer.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456560" y="5259600"/>
              <a:ext cx="774720" cy="244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SUL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973680" y="4356360"/>
              <a:ext cx="101520" cy="15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948200" y="3956040"/>
              <a:ext cx="409680" cy="20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5665680" y="4556160"/>
              <a:ext cx="462240" cy="101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65520" y="4640400"/>
              <a:ext cx="308160" cy="257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3966840" y="4780080"/>
              <a:ext cx="452520" cy="128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5200560" y="4999320"/>
              <a:ext cx="152640" cy="101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20CE-CA9D-4930-96E9-1406FE80A50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673360" y="3164040"/>
            <a:ext cx="4348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cell is frozen and fractured with a knife. The fracture plane often follows the hydrophobic interior of a membrane, splitting the phospholipid bilayer into two separated layers. The membrane proteins go wholly with one of the layer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Fluidity of Membran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ospholipids in the plasma membr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move within the bi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610920" y="2209680"/>
            <a:ext cx="7770960" cy="3972600"/>
            <a:chOff x="610920" y="2209680"/>
            <a:chExt cx="7770960" cy="3972600"/>
          </a:xfrm>
        </p:grpSpPr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838080" y="2209680"/>
              <a:ext cx="7543800" cy="3521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8" name=""/>
            <p:cNvGrpSpPr/>
            <p:nvPr/>
          </p:nvGrpSpPr>
          <p:grpSpPr>
            <a:xfrm>
              <a:off x="610920" y="3732120"/>
              <a:ext cx="6102720" cy="2450160"/>
              <a:chOff x="610920" y="3732120"/>
              <a:chExt cx="6102720" cy="2450160"/>
            </a:xfrm>
          </p:grpSpPr>
          <p:sp>
            <p:nvSpPr>
              <p:cNvPr id="249" name=""/>
              <p:cNvSpPr/>
              <p:nvPr/>
            </p:nvSpPr>
            <p:spPr>
              <a:xfrm>
                <a:off x="610920" y="5876640"/>
                <a:ext cx="12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igure 7.5 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572480" y="4700520"/>
                <a:ext cx="1971000" cy="48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Lateral movement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(~10</a:t>
                </a:r>
                <a:r>
                  <a:rPr b="0" lang="en-US" sz="1300" spc="-1" strike="noStrike" baseline="30000">
                    <a:solidFill>
                      <a:srgbClr val="000000"/>
                    </a:solidFill>
                    <a:latin typeface="Arial"/>
                  </a:rPr>
                  <a:t>7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times per second)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133960" y="4737240"/>
                <a:ext cx="1579680" cy="48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Flip-flop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(~ once per month)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25760" y="5526000"/>
                <a:ext cx="261720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(a) Movement of phospholipid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2286000" y="3732120"/>
                <a:ext cx="990720" cy="990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5867280" y="4038480"/>
                <a:ext cx="533520" cy="838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5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6D58-CB57-40B6-8613-CCA1BB6CE35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eins in the plasma membr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drift within the bi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609480" y="2117520"/>
            <a:ext cx="8409960" cy="4347360"/>
            <a:chOff x="609480" y="2117520"/>
            <a:chExt cx="8409960" cy="4347360"/>
          </a:xfrm>
        </p:grpSpPr>
        <p:grpSp>
          <p:nvGrpSpPr>
            <p:cNvPr id="259" name=""/>
            <p:cNvGrpSpPr/>
            <p:nvPr/>
          </p:nvGrpSpPr>
          <p:grpSpPr>
            <a:xfrm>
              <a:off x="1758600" y="2117520"/>
              <a:ext cx="7260840" cy="4338000"/>
              <a:chOff x="1758600" y="2117520"/>
              <a:chExt cx="7260840" cy="4338000"/>
            </a:xfrm>
          </p:grpSpPr>
          <p:sp>
            <p:nvSpPr>
              <p:cNvPr id="260" name=""/>
              <p:cNvSpPr/>
              <p:nvPr/>
            </p:nvSpPr>
            <p:spPr>
              <a:xfrm>
                <a:off x="1900440" y="2117520"/>
                <a:ext cx="1341720" cy="30564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XPERIME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758600" y="2162880"/>
                <a:ext cx="726084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      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esearchers labeled the plasma mambrane proteins of a mouse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ell and a human cell with two different markers and fused the cells. Using a microscope,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hey observed the markers on the hybrid cell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2330640" y="3298320"/>
                <a:ext cx="5405040" cy="2274840"/>
                <a:chOff x="2330640" y="3298320"/>
                <a:chExt cx="5405040" cy="2274840"/>
              </a:xfrm>
            </p:grpSpPr>
            <p:pic>
              <p:nvPicPr>
                <p:cNvPr id="263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30640" y="3386520"/>
                  <a:ext cx="5280480" cy="1699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4" name=""/>
                <p:cNvSpPr/>
                <p:nvPr/>
              </p:nvSpPr>
              <p:spPr>
                <a:xfrm>
                  <a:off x="2827440" y="3298320"/>
                  <a:ext cx="172116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Membrane protein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332440" y="4556520"/>
                  <a:ext cx="10386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Mouse cel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530880" y="4848840"/>
                  <a:ext cx="107676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uman cel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5257800" y="5069880"/>
                  <a:ext cx="10188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ybrid cel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915240" y="4628160"/>
                  <a:ext cx="820440" cy="94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Mix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tein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ft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 hou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>
                  <a:off x="3305880" y="3566880"/>
                  <a:ext cx="251280" cy="502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557520" y="3566880"/>
                  <a:ext cx="125280" cy="628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1960920" y="2962080"/>
                <a:ext cx="1249200" cy="30564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RESUL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879920" y="5676480"/>
                <a:ext cx="1393560" cy="30564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CONCLUS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780200" y="5723640"/>
                <a:ext cx="655236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      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he mixing of the mouse and human membrane proteins 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ndicates that at least some membrane proteins move sideways within the plane 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f the plasma membrane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609480" y="4242240"/>
              <a:ext cx="2934360" cy="2222640"/>
              <a:chOff x="609480" y="4242240"/>
              <a:chExt cx="2934360" cy="2222640"/>
            </a:xfrm>
          </p:grpSpPr>
          <p:sp>
            <p:nvSpPr>
              <p:cNvPr id="275" name=""/>
              <p:cNvSpPr/>
              <p:nvPr/>
            </p:nvSpPr>
            <p:spPr>
              <a:xfrm>
                <a:off x="609480" y="6159240"/>
                <a:ext cx="12956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igure 7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240000" y="4242240"/>
                <a:ext cx="3038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7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B9E5-5833-44EF-8FFC-E3FCF65875A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type of hydrocarbon tails in phospholip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fects the fluidity of the plasma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49640" y="2217600"/>
            <a:ext cx="8313480" cy="4110480"/>
            <a:chOff x="449640" y="2217600"/>
            <a:chExt cx="8313480" cy="4110480"/>
          </a:xfrm>
        </p:grpSpPr>
        <p:sp>
          <p:nvSpPr>
            <p:cNvPr id="281" name=""/>
            <p:cNvSpPr/>
            <p:nvPr/>
          </p:nvSpPr>
          <p:spPr>
            <a:xfrm>
              <a:off x="449640" y="6022440"/>
              <a:ext cx="1256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7.5 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609480" y="2217600"/>
              <a:ext cx="8153640" cy="3802320"/>
              <a:chOff x="609480" y="2217600"/>
              <a:chExt cx="8153640" cy="3802320"/>
            </a:xfrm>
          </p:grpSpPr>
          <p:pic>
            <p:nvPicPr>
              <p:cNvPr id="28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09480" y="2217600"/>
                <a:ext cx="8153640" cy="372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4" name=""/>
              <p:cNvSpPr/>
              <p:nvPr/>
            </p:nvSpPr>
            <p:spPr>
              <a:xfrm>
                <a:off x="2055600" y="2528640"/>
                <a:ext cx="610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lu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398640" y="2528640"/>
                <a:ext cx="8679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Viscou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7520" y="4967280"/>
                <a:ext cx="2041200" cy="48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Unsaturated hydrocarb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tails with kink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566320" y="4992840"/>
                <a:ext cx="1410480" cy="48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Saturated hydro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arbon tail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15240" y="5729400"/>
                <a:ext cx="184932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(b) Membrane fluidity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>
                <a:off x="1430280" y="3672000"/>
                <a:ext cx="34776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1433520" y="4167360"/>
                <a:ext cx="484200" cy="838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 flipV="1">
                <a:off x="5943240" y="4281120"/>
                <a:ext cx="228600" cy="762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>
                <a:off x="6172200" y="4281480"/>
                <a:ext cx="457200" cy="762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3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034F-A3F8-4A03-B0C2-C7837C5A2BB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teroid cholester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different effects on membrane fluidity at different temper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208440" y="2441520"/>
            <a:ext cx="8630280" cy="3578760"/>
            <a:chOff x="208440" y="2441520"/>
            <a:chExt cx="8630280" cy="3578760"/>
          </a:xfrm>
        </p:grpSpPr>
        <p:sp>
          <p:nvSpPr>
            <p:cNvPr id="297" name=""/>
            <p:cNvSpPr/>
            <p:nvPr/>
          </p:nvSpPr>
          <p:spPr>
            <a:xfrm>
              <a:off x="208440" y="5714640"/>
              <a:ext cx="1128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7.5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1289160" y="2441520"/>
              <a:ext cx="7549560" cy="3566880"/>
              <a:chOff x="1289160" y="2441520"/>
              <a:chExt cx="7549560" cy="3566880"/>
            </a:xfrm>
          </p:grpSpPr>
          <p:pic>
            <p:nvPicPr>
              <p:cNvPr id="29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379160" y="2441520"/>
                <a:ext cx="7459560" cy="318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>
                <a:off x="1289160" y="5717880"/>
                <a:ext cx="391572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(c) Cholesterol within the animal cell membran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102640" y="5273280"/>
                <a:ext cx="109044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Cholestero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5595840" y="4777920"/>
                <a:ext cx="151920" cy="533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3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06BB-0BD4-44A5-A517-8BDFC5B0CB0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"/>
          <p:cNvGrpSpPr/>
          <p:nvPr/>
        </p:nvGrpSpPr>
        <p:grpSpPr>
          <a:xfrm>
            <a:off x="925200" y="2617920"/>
            <a:ext cx="6922800" cy="3780360"/>
            <a:chOff x="925200" y="2617920"/>
            <a:chExt cx="6922800" cy="3780360"/>
          </a:xfrm>
        </p:grpSpPr>
        <p:sp>
          <p:nvSpPr>
            <p:cNvPr id="305" name=""/>
            <p:cNvSpPr/>
            <p:nvPr/>
          </p:nvSpPr>
          <p:spPr>
            <a:xfrm>
              <a:off x="925200" y="6092640"/>
              <a:ext cx="1027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7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6" name="" descr=""/>
            <p:cNvPicPr/>
            <p:nvPr/>
          </p:nvPicPr>
          <p:blipFill>
            <a:blip r:embed="rId1"/>
            <a:stretch/>
          </p:blipFill>
          <p:spPr>
            <a:xfrm>
              <a:off x="2374920" y="2617920"/>
              <a:ext cx="5370480" cy="37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3070440" y="3112560"/>
              <a:ext cx="831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lycoprote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93120" y="3414240"/>
              <a:ext cx="8816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rbohydra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70760" y="5595480"/>
              <a:ext cx="95472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crofilamen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f cytoskelet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528000" y="5771880"/>
              <a:ext cx="7671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holestero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285800" y="5738400"/>
              <a:ext cx="70920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eripher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te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46560" y="5811480"/>
              <a:ext cx="56916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tegr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te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491160" y="5854320"/>
              <a:ext cx="130212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YTOPLASMIC SID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F MEMBRA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690600" y="4107600"/>
              <a:ext cx="115740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XTRACELLULA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IDE O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164640" y="4057200"/>
              <a:ext cx="6850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lycolipi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4648320" y="5559120"/>
              <a:ext cx="1106280" cy="22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62640" y="5329080"/>
              <a:ext cx="0" cy="552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7118280" y="5716080"/>
              <a:ext cx="387360" cy="165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3873240" y="4832280"/>
              <a:ext cx="166680" cy="995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2989080" y="5075280"/>
              <a:ext cx="585720" cy="585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2989440" y="5329080"/>
              <a:ext cx="109440" cy="331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7026120" y="4600080"/>
              <a:ext cx="220680" cy="11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 flipV="1">
              <a:off x="6665400" y="4268880"/>
              <a:ext cx="166680" cy="5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2545920" y="3089160"/>
              <a:ext cx="276120" cy="857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22400" y="3073320"/>
              <a:ext cx="167040" cy="387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828880" y="3089160"/>
              <a:ext cx="0" cy="884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600000">
              <a:off x="3530520" y="3492360"/>
              <a:ext cx="66600" cy="603360"/>
            </a:xfrm>
            <a:custGeom>
              <a:avLst/>
              <a:gdLst>
                <a:gd name="textAreaLeft" fmla="*/ 42480 w 66600"/>
                <a:gd name="textAreaRight" fmla="*/ 66960 w 66600"/>
                <a:gd name="textAreaTop" fmla="*/ 15480 h 603360"/>
                <a:gd name="textAreaBottom" fmla="*/ 587880 h 60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600000">
              <a:off x="4038480" y="3581280"/>
              <a:ext cx="55800" cy="441360"/>
            </a:xfrm>
            <a:custGeom>
              <a:avLst/>
              <a:gdLst>
                <a:gd name="textAreaLeft" fmla="*/ 0 w 55800"/>
                <a:gd name="textAreaRight" fmla="*/ 20160 w 55800"/>
                <a:gd name="textAreaTop" fmla="*/ 11520 h 441360"/>
                <a:gd name="textAreaBottom" fmla="*/ 429840 h 44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419640" y="3324240"/>
              <a:ext cx="117360" cy="46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4082760" y="3610080"/>
              <a:ext cx="166680" cy="22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Membrane Proteins and Their Function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membr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collage of different proteins embedded in the fluid matrix of the lipid bi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518560" y="2586960"/>
            <a:ext cx="8586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bers o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trix (ECM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55C9-86CF-4DB3-96BF-5B57913DBAB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gral prote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etrate the hydrophobic core of the lipid bi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often transmembrane proteins, completely spanning the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216760" y="3582000"/>
            <a:ext cx="137088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711800" y="3546360"/>
            <a:ext cx="4848120" cy="2956320"/>
            <a:chOff x="1711800" y="3546360"/>
            <a:chExt cx="4848120" cy="2956320"/>
          </a:xfrm>
        </p:grpSpPr>
        <p:sp>
          <p:nvSpPr>
            <p:cNvPr id="339" name=""/>
            <p:cNvSpPr/>
            <p:nvPr/>
          </p:nvSpPr>
          <p:spPr>
            <a:xfrm>
              <a:off x="1711800" y="6227640"/>
              <a:ext cx="907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0" name="" descr=""/>
            <p:cNvPicPr/>
            <p:nvPr/>
          </p:nvPicPr>
          <p:blipFill>
            <a:blip r:embed="rId1"/>
            <a:stretch/>
          </p:blipFill>
          <p:spPr>
            <a:xfrm>
              <a:off x="2976480" y="3546360"/>
              <a:ext cx="3529080" cy="287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2943000" y="3878280"/>
              <a:ext cx="87084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-terminu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925360" y="5867640"/>
              <a:ext cx="87084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-terminu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13840" y="6159600"/>
              <a:ext cx="62244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eli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371920" y="6010920"/>
              <a:ext cx="1188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YTOPLASMI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ID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3765600" y="4030200"/>
              <a:ext cx="760320" cy="28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3751200" y="5956200"/>
              <a:ext cx="233280" cy="46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4132440" y="5514840"/>
              <a:ext cx="320400" cy="681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904000" y="5781600"/>
              <a:ext cx="0" cy="20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38680" y="3886200"/>
              <a:ext cx="544680" cy="746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97BA-6A64-4558-B017-2640D161A98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ipheral prote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appendages loosely bound to the surface of the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BCAA-D911-4DC8-AD85-9CE0CA53BE5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overview of six major functions of membrane prote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676160" y="1752480"/>
            <a:ext cx="5323680" cy="4725000"/>
            <a:chOff x="1676160" y="1752480"/>
            <a:chExt cx="5323680" cy="4725000"/>
          </a:xfrm>
        </p:grpSpPr>
        <p:sp>
          <p:nvSpPr>
            <p:cNvPr id="357" name=""/>
            <p:cNvSpPr/>
            <p:nvPr/>
          </p:nvSpPr>
          <p:spPr>
            <a:xfrm>
              <a:off x="1718280" y="6202440"/>
              <a:ext cx="9500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7.9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8" name="" descr=""/>
            <p:cNvPicPr/>
            <p:nvPr/>
          </p:nvPicPr>
          <p:blipFill>
            <a:blip r:embed="rId1"/>
            <a:stretch/>
          </p:blipFill>
          <p:spPr>
            <a:xfrm>
              <a:off x="5743440" y="1843200"/>
              <a:ext cx="1238400" cy="46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1967760" y="1752480"/>
              <a:ext cx="3902400" cy="13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ansport. (left)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A protein that spans the membra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y provide a hydrophilic channel across t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mbrane that is selective for a particular solut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right)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Other transport proteins shuttle a substa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om one side to the other by changing shape. So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these proteins hydrolyze ATP as an energy s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actively pump substances  across the membran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69560" y="3389400"/>
              <a:ext cx="3850560" cy="11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zymatic activity.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A protein built into the membra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y be an enzyme with its active site exposed 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bstances in the adjacent solution. In some cases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veral enzymes in a membrane are organized 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team that carries out sequential steps of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tabolic pathway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69560" y="4713120"/>
              <a:ext cx="3794040" cy="11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gnal transduction.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A membrane protein may ha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binding site with a specific shape that fits the sha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a chemical messenger, such as a hormone. T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 messenger (signal) may cause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formational change in the protein (receptor) th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lays the message to the inside of the cel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76160" y="1768320"/>
              <a:ext cx="370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689480" y="3375000"/>
              <a:ext cx="378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76160" y="4734000"/>
              <a:ext cx="370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517440" y="3024000"/>
              <a:ext cx="4824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940720" y="3425760"/>
              <a:ext cx="812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zym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031440" y="4889520"/>
              <a:ext cx="6102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g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564880" y="6146640"/>
              <a:ext cx="80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ep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6240600" y="3655800"/>
              <a:ext cx="123840" cy="18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364440" y="3645000"/>
              <a:ext cx="123840" cy="18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6251400" y="5106960"/>
              <a:ext cx="123840" cy="12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004080" y="5838840"/>
              <a:ext cx="185760" cy="36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9D72-1F47-43A1-9861-A649A559056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"/>
          <p:cNvGrpSpPr/>
          <p:nvPr/>
        </p:nvGrpSpPr>
        <p:grpSpPr>
          <a:xfrm>
            <a:off x="1665720" y="822240"/>
            <a:ext cx="6005160" cy="5653440"/>
            <a:chOff x="1665720" y="822240"/>
            <a:chExt cx="6005160" cy="5653440"/>
          </a:xfrm>
        </p:grpSpPr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6180120" y="838080"/>
              <a:ext cx="1490760" cy="541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1986120" y="822240"/>
              <a:ext cx="378612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ll-cell recognition.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Some glyco-proteins serve a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dentification tags that are specifically recognize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y other cells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005920" y="2595600"/>
              <a:ext cx="413676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cellular joining.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Membrane proteins of adjacent cel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y hook together in various kinds of junctions, such 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ap junctions or tight junctions (see Figure 6.31)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987200" y="4459320"/>
              <a:ext cx="4217400" cy="13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ttachment to the cytoskeleton and extracellular matr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ECM).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Microfilaments or other elements of t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ytoskeleton may be bonded to membrane proteins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function that helps maintain cell shape and stabiliz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 location of certain membrane proteins. Proteins th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dhere to the ECM can coordinate extracellular 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racellular changes (see Figure 6.29)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665720" y="822240"/>
              <a:ext cx="378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669680" y="2585880"/>
              <a:ext cx="370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668600" y="4419720"/>
              <a:ext cx="335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f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585480" y="1879560"/>
              <a:ext cx="6530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lyco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te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718280" y="6200640"/>
              <a:ext cx="9500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7.9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FB6A-3C58-40BE-BB13-F6FD0067777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5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view: Life at the Ed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lasma membr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boundary that separates the living cell from its nonliving surround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96080" y="6477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D5A1-90ED-49DC-B2F1-AC98020BC99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Role of Membrane Carbohydrates in Cell-Cell Recogni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25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ll-cell recogn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cell’s ability to distinguish one type of neighboring cell from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144D-B39D-4595-825D-29D97F20BD3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mbrane carbohydr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 with the surface molecules of other cells, facilitating cell-cell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AD0B-B9F3-44D2-8A06-CBC0B944AB1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Synthesis and Sidedness of Membran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mbranes have distinct inside and outside fa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affects the movement of proteins synthesized in the endomembrane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0A6D-B54D-42EE-827B-A206BCF6E6D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mbrane proteins and lip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synthesized in the ER and Golgi appar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371600" y="12240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302000" y="2049480"/>
            <a:ext cx="360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1957320" y="2068560"/>
            <a:ext cx="4505400" cy="4408920"/>
            <a:chOff x="1957320" y="2068560"/>
            <a:chExt cx="4505400" cy="4408920"/>
          </a:xfrm>
        </p:grpSpPr>
        <p:sp>
          <p:nvSpPr>
            <p:cNvPr id="399" name=""/>
            <p:cNvSpPr/>
            <p:nvPr/>
          </p:nvSpPr>
          <p:spPr>
            <a:xfrm>
              <a:off x="1957320" y="6202440"/>
              <a:ext cx="992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7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0" name="" descr=""/>
            <p:cNvPicPr/>
            <p:nvPr/>
          </p:nvPicPr>
          <p:blipFill>
            <a:blip r:embed="rId1"/>
            <a:stretch/>
          </p:blipFill>
          <p:spPr>
            <a:xfrm>
              <a:off x="3156120" y="2068560"/>
              <a:ext cx="3306600" cy="43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3676680" y="2357280"/>
              <a:ext cx="11131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membra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lycoprotei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188160" y="2840040"/>
              <a:ext cx="7275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creto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te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127680" y="3284640"/>
              <a:ext cx="73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lycolipi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111120" y="3527280"/>
              <a:ext cx="7902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olg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pparat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075480" y="4078440"/>
              <a:ext cx="619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esic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332240" y="5522760"/>
              <a:ext cx="11131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membra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lycoprote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62320" y="6140520"/>
              <a:ext cx="1341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mbrane glycolipi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898160" y="5057640"/>
              <a:ext cx="13449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sma membrane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95800" y="5203800"/>
              <a:ext cx="1148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ytoplasmic fa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08680" y="5381640"/>
              <a:ext cx="1154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xtracellular fa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734000" y="5904000"/>
              <a:ext cx="0" cy="12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154560" y="5365800"/>
              <a:ext cx="250920" cy="50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070680" y="5553000"/>
              <a:ext cx="314280" cy="376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4944600" y="6257880"/>
              <a:ext cx="18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271680" y="4273560"/>
              <a:ext cx="125640" cy="31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3427560" y="3865680"/>
              <a:ext cx="188640" cy="25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94040" y="3443400"/>
              <a:ext cx="250920" cy="25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689280" y="3144960"/>
              <a:ext cx="501840" cy="25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16400" y="2722680"/>
              <a:ext cx="0" cy="25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87840" y="2141640"/>
              <a:ext cx="414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17240" y="5695920"/>
              <a:ext cx="6908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cret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te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flipV="1">
              <a:off x="3479760" y="6039000"/>
              <a:ext cx="125280" cy="6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743000" y="2289240"/>
              <a:ext cx="250920" cy="18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4" name=""/>
            <p:cNvGrpSpPr/>
            <p:nvPr/>
          </p:nvGrpSpPr>
          <p:grpSpPr>
            <a:xfrm>
              <a:off x="3986280" y="5286240"/>
              <a:ext cx="183960" cy="304920"/>
              <a:chOff x="3986280" y="5286240"/>
              <a:chExt cx="183960" cy="304920"/>
            </a:xfrm>
          </p:grpSpPr>
          <p:sp>
            <p:nvSpPr>
              <p:cNvPr id="425" name=""/>
              <p:cNvSpPr/>
              <p:nvPr/>
            </p:nvSpPr>
            <p:spPr>
              <a:xfrm>
                <a:off x="4033440" y="5385600"/>
                <a:ext cx="104400" cy="118080"/>
              </a:xfrm>
              <a:prstGeom prst="ellipse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986280" y="5286240"/>
                <a:ext cx="1839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7" name=""/>
            <p:cNvSpPr/>
            <p:nvPr/>
          </p:nvSpPr>
          <p:spPr>
            <a:xfrm>
              <a:off x="3957120" y="531972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3662280" y="4873680"/>
              <a:ext cx="184320" cy="304920"/>
              <a:chOff x="3662280" y="4873680"/>
              <a:chExt cx="184320" cy="304920"/>
            </a:xfrm>
          </p:grpSpPr>
          <p:sp>
            <p:nvSpPr>
              <p:cNvPr id="429" name=""/>
              <p:cNvSpPr/>
              <p:nvPr/>
            </p:nvSpPr>
            <p:spPr>
              <a:xfrm>
                <a:off x="3714840" y="4977000"/>
                <a:ext cx="97200" cy="107280"/>
              </a:xfrm>
              <a:prstGeom prst="ellipse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662280" y="487368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3598920" y="3494160"/>
              <a:ext cx="183960" cy="304560"/>
              <a:chOff x="3598920" y="3494160"/>
              <a:chExt cx="183960" cy="304560"/>
            </a:xfrm>
          </p:grpSpPr>
          <p:sp>
            <p:nvSpPr>
              <p:cNvPr id="432" name=""/>
              <p:cNvSpPr/>
              <p:nvPr/>
            </p:nvSpPr>
            <p:spPr>
              <a:xfrm>
                <a:off x="3652560" y="3598560"/>
                <a:ext cx="96840" cy="106560"/>
              </a:xfrm>
              <a:prstGeom prst="ellipse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598920" y="3494160"/>
                <a:ext cx="183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4664160" y="2114640"/>
              <a:ext cx="183960" cy="304560"/>
              <a:chOff x="4664160" y="2114640"/>
              <a:chExt cx="183960" cy="304560"/>
            </a:xfrm>
          </p:grpSpPr>
          <p:sp>
            <p:nvSpPr>
              <p:cNvPr id="435" name=""/>
              <p:cNvSpPr/>
              <p:nvPr/>
            </p:nvSpPr>
            <p:spPr>
              <a:xfrm>
                <a:off x="4717800" y="2219400"/>
                <a:ext cx="96840" cy="107280"/>
              </a:xfrm>
              <a:prstGeom prst="ellipse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664160" y="2114640"/>
                <a:ext cx="183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4635000" y="21448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568320" y="352260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638160" y="490680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0CBC-91D7-443C-8B2D-93DC595A6E6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7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pt 7.2: Membrane structure results in selective perme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cell must exchange materials with its surroundings, a process controlled by the plasma membr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DA32-1E88-479A-94BC-8BEFE8423D3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Permeability of the Lipid Bilayer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32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ydrophobic molecu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lipid soluble and can pass through the membrane rapid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ar molecu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cross the membrane rapid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FE54-C93B-4338-881B-123B796AE68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ransport Protein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port prote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passage of hydrophilic substances across the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501B-ED82-4B29-BB9E-602D9DF8429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pt 7.3: Passive transport is diffusion of a substance across a membrane with no energy invest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898E-AB96-4B72-BE32-8BA802C871B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tendency for molecules of any substance to spread out evenly into the availabl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202680" y="2819520"/>
            <a:ext cx="8865000" cy="3010320"/>
            <a:chOff x="202680" y="2819520"/>
            <a:chExt cx="8865000" cy="3010320"/>
          </a:xfrm>
        </p:grpSpPr>
        <p:sp>
          <p:nvSpPr>
            <p:cNvPr id="456" name=""/>
            <p:cNvSpPr/>
            <p:nvPr/>
          </p:nvSpPr>
          <p:spPr>
            <a:xfrm>
              <a:off x="293400" y="5554800"/>
              <a:ext cx="1145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7.11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202680" y="2819520"/>
              <a:ext cx="8865000" cy="2647800"/>
              <a:chOff x="202680" y="2819520"/>
              <a:chExt cx="8865000" cy="2647800"/>
            </a:xfrm>
          </p:grpSpPr>
          <p:pic>
            <p:nvPicPr>
              <p:cNvPr id="45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416400" y="2898720"/>
                <a:ext cx="5651280" cy="239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9" name=""/>
              <p:cNvSpPr/>
              <p:nvPr/>
            </p:nvSpPr>
            <p:spPr>
              <a:xfrm>
                <a:off x="430560" y="2819520"/>
                <a:ext cx="3001320" cy="264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Diffusion of one solute.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The membran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as pores large enough for molecules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f dye to pass through. Random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ovement of dye molecules will caus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ome to pass through the pores; this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ill happen more often on the sid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ith more molecules. The dye diffuses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rom where it is more concentrated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 where it is less concentrated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called diffusing down a concentration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radient). This leads to a dynamic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quilibrium: The solute molecules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ontinue to cross the membrane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ut at equal rates in both direction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421440" y="2895480"/>
                <a:ext cx="13327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olecules of dy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760280" y="2908080"/>
                <a:ext cx="1949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embrane (cross section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679920" y="4736880"/>
                <a:ext cx="1035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Net diffus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635440" y="4736880"/>
                <a:ext cx="1035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Net diffus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763040" y="4724280"/>
                <a:ext cx="9396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Equilibriu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02680" y="2819520"/>
                <a:ext cx="3708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3683160" y="3123720"/>
                <a:ext cx="7596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 flipV="1">
                <a:off x="3759120" y="3117960"/>
                <a:ext cx="7632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>
                <a:off x="4228920" y="3060720"/>
                <a:ext cx="60948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9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2E52-50B7-4C7C-9C00-8F0A8D454DF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bstances diffuse down their concentration gradient, the difference in concentration of a substance from one area to anoth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179280" y="2895480"/>
            <a:ext cx="8710200" cy="2484720"/>
            <a:chOff x="179280" y="2895480"/>
            <a:chExt cx="8710200" cy="2484720"/>
          </a:xfrm>
        </p:grpSpPr>
        <p:sp>
          <p:nvSpPr>
            <p:cNvPr id="473" name=""/>
            <p:cNvSpPr/>
            <p:nvPr/>
          </p:nvSpPr>
          <p:spPr>
            <a:xfrm>
              <a:off x="179280" y="5105160"/>
              <a:ext cx="1145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7.11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4" name="" descr=""/>
            <p:cNvPicPr/>
            <p:nvPr/>
          </p:nvPicPr>
          <p:blipFill>
            <a:blip r:embed="rId1"/>
            <a:stretch/>
          </p:blipFill>
          <p:spPr>
            <a:xfrm>
              <a:off x="3403440" y="2954160"/>
              <a:ext cx="5486040" cy="23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"/>
            <p:cNvSpPr/>
            <p:nvPr/>
          </p:nvSpPr>
          <p:spPr>
            <a:xfrm>
              <a:off x="523440" y="2916000"/>
              <a:ext cx="2907000" cy="173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ffusion of two solutes.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Solutions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wo different dyes are separated by 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mbrane that is permeable to both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ach dye diffuses down its own concen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tion gradient. There will be a ne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ffusion of the purple dye toward th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ft, even though the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solu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centration was initially greater 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 left sid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28240" y="2895480"/>
              <a:ext cx="378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641400" y="4536720"/>
              <a:ext cx="1035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et diffu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717360" y="4871880"/>
              <a:ext cx="1035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et diffu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571720" y="4525560"/>
              <a:ext cx="1035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et diffu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673240" y="4884480"/>
              <a:ext cx="1035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et diffu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648200" y="4879800"/>
              <a:ext cx="939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libriu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648200" y="4512960"/>
              <a:ext cx="939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libriu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6FE7-E8E8-41DB-B858-3BADB78E1E5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lasma membrane exhibits selective permeabilit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llows some substances to cross it more easily than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825200" y="2832120"/>
            <a:ext cx="5947200" cy="3663720"/>
            <a:chOff x="1825200" y="2832120"/>
            <a:chExt cx="5947200" cy="3663720"/>
          </a:xfrm>
        </p:grpSpPr>
        <p:sp>
          <p:nvSpPr>
            <p:cNvPr id="179" name=""/>
            <p:cNvSpPr/>
            <p:nvPr/>
          </p:nvSpPr>
          <p:spPr>
            <a:xfrm>
              <a:off x="1825200" y="6159960"/>
              <a:ext cx="114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gure 7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2971800" y="2832120"/>
              <a:ext cx="4800600" cy="358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1" name=""/>
          <p:cNvSpPr/>
          <p:nvPr/>
        </p:nvSpPr>
        <p:spPr>
          <a:xfrm>
            <a:off x="7696080" y="6477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EC87-BD5B-4689-A0DF-C8B66E59A0F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Effects of Osmosis on Water Balanc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smo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movement of water across a semipermeable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479A-D5A7-4D0E-8170-78354E9F6B3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ffected by the concentration gradient of dissolved sub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2414520" y="2303640"/>
            <a:ext cx="4646520" cy="4160880"/>
            <a:chOff x="2414520" y="2303640"/>
            <a:chExt cx="4646520" cy="4160880"/>
          </a:xfrm>
        </p:grpSpPr>
        <p:sp>
          <p:nvSpPr>
            <p:cNvPr id="490" name=""/>
            <p:cNvSpPr/>
            <p:nvPr/>
          </p:nvSpPr>
          <p:spPr>
            <a:xfrm>
              <a:off x="2414520" y="6189480"/>
              <a:ext cx="992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7.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1" name="" descr=""/>
            <p:cNvPicPr/>
            <p:nvPr/>
          </p:nvPicPr>
          <p:blipFill>
            <a:blip r:embed="rId1"/>
            <a:stretch/>
          </p:blipFill>
          <p:spPr>
            <a:xfrm>
              <a:off x="3421080" y="2303640"/>
              <a:ext cx="3639960" cy="3539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2" name=""/>
          <p:cNvGrpSpPr/>
          <p:nvPr/>
        </p:nvGrpSpPr>
        <p:grpSpPr>
          <a:xfrm>
            <a:off x="3038760" y="1647720"/>
            <a:ext cx="4466520" cy="4783320"/>
            <a:chOff x="3038760" y="1647720"/>
            <a:chExt cx="4466520" cy="4783320"/>
          </a:xfrm>
        </p:grpSpPr>
        <p:grpSp>
          <p:nvGrpSpPr>
            <p:cNvPr id="493" name=""/>
            <p:cNvGrpSpPr/>
            <p:nvPr/>
          </p:nvGrpSpPr>
          <p:grpSpPr>
            <a:xfrm>
              <a:off x="3038760" y="1647720"/>
              <a:ext cx="4466520" cy="4783320"/>
              <a:chOff x="3038760" y="1647720"/>
              <a:chExt cx="4466520" cy="4783320"/>
            </a:xfrm>
          </p:grpSpPr>
          <p:sp>
            <p:nvSpPr>
              <p:cNvPr id="494" name=""/>
              <p:cNvSpPr/>
              <p:nvPr/>
            </p:nvSpPr>
            <p:spPr>
              <a:xfrm>
                <a:off x="3126240" y="1647720"/>
                <a:ext cx="109944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ow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ncentr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f solute (sugar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342320" y="1650960"/>
                <a:ext cx="94392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igh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ncentr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f suga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641200" y="1787400"/>
                <a:ext cx="130824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ame concentr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f suga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044880" y="3948120"/>
                <a:ext cx="1337040" cy="10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lectivel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ermeable mem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rane: sugar mole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ules cannot pas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hrough pores, bu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ater molecules ca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038760" y="4913280"/>
                <a:ext cx="118188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ore free wat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olecules (high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ncentration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312600" y="4044960"/>
                <a:ext cx="112536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ater molecul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luster around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ugar molecul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370920" y="4975200"/>
                <a:ext cx="113436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ewer free wat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olecules (low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ncentration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365360" y="5881680"/>
                <a:ext cx="224244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ater moves from an area of higher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ee water concentration to an area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f lower free water concentr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608280" y="2139840"/>
                <a:ext cx="0" cy="716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676760" y="2139840"/>
                <a:ext cx="0" cy="70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>
                <a:off x="3838320" y="3807000"/>
                <a:ext cx="314280" cy="288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849840" y="4095720"/>
                <a:ext cx="1454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743440" y="2185920"/>
                <a:ext cx="1067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805440" y="2181240"/>
                <a:ext cx="0" cy="376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748480" y="2181240"/>
                <a:ext cx="0" cy="1004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234120" y="2124000"/>
                <a:ext cx="0" cy="61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237200" y="5011560"/>
                <a:ext cx="0" cy="439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H="1">
                <a:off x="4236840" y="4822920"/>
                <a:ext cx="626760" cy="439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392880" y="5027760"/>
                <a:ext cx="0" cy="439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695920" y="4911840"/>
                <a:ext cx="690480" cy="377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340320" y="4132440"/>
                <a:ext cx="0" cy="430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827680" y="4221000"/>
                <a:ext cx="501840" cy="127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403880" y="5916600"/>
                <a:ext cx="2009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5299200" y="5795640"/>
                <a:ext cx="0" cy="127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169960" y="562572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" name=""/>
            <p:cNvSpPr/>
            <p:nvPr/>
          </p:nvSpPr>
          <p:spPr>
            <a:xfrm>
              <a:off x="4990680" y="5562720"/>
              <a:ext cx="6789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smosi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0753-FE58-4ED5-B8BD-8D4C7D592F8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Water Balance of Cells Without Wall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nic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ability of a solution to cause a cell to gain or lose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a great impact on cells without w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F89D-5081-4E50-AE8D-438F5A54C61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a solution is isoton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centration of solutes is the same as it is inside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ill be no net movement of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23AC-4B15-4F77-8D58-7C06B48805F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a solution is hyperton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centration of solutes is greater than it is inside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ell will lose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E39D-EADC-490B-A730-724839DD01D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a solution is hypoton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centration of solutes is less than it is inside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ell will gain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58C9-DC5A-4DF7-89ED-20467236645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 balance in cells without wa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341640" y="2285640"/>
            <a:ext cx="8650080" cy="3277440"/>
            <a:chOff x="341640" y="2285640"/>
            <a:chExt cx="8650080" cy="3277440"/>
          </a:xfrm>
        </p:grpSpPr>
        <p:pic>
          <p:nvPicPr>
            <p:cNvPr id="536" name="" descr=""/>
            <p:cNvPicPr/>
            <p:nvPr/>
          </p:nvPicPr>
          <p:blipFill>
            <a:blip r:embed="rId1"/>
            <a:stretch/>
          </p:blipFill>
          <p:spPr>
            <a:xfrm>
              <a:off x="2514600" y="2565360"/>
              <a:ext cx="6477120" cy="25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>
              <a:off x="438480" y="5257440"/>
              <a:ext cx="117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7.13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8" name=""/>
            <p:cNvGrpSpPr/>
            <p:nvPr/>
          </p:nvGrpSpPr>
          <p:grpSpPr>
            <a:xfrm>
              <a:off x="341640" y="2285640"/>
              <a:ext cx="8579160" cy="2845440"/>
              <a:chOff x="341640" y="2285640"/>
              <a:chExt cx="8579160" cy="2845440"/>
            </a:xfrm>
          </p:grpSpPr>
          <p:sp>
            <p:nvSpPr>
              <p:cNvPr id="539" name=""/>
              <p:cNvSpPr/>
              <p:nvPr/>
            </p:nvSpPr>
            <p:spPr>
              <a:xfrm>
                <a:off x="2641320" y="2285640"/>
                <a:ext cx="1796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Hypotonic solu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847400" y="2298240"/>
                <a:ext cx="1609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sotonic solu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063920" y="2285640"/>
                <a:ext cx="18568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Hypertonic solu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49440" y="2550600"/>
                <a:ext cx="1923840" cy="179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nimal cell.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A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nimal cell fares bes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n an isotonic environ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ent unless it ha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pecial adaptations t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ffset the osmoti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uptake or loss o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ater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41640" y="2552040"/>
                <a:ext cx="402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a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920040" y="3045600"/>
                <a:ext cx="509760" cy="3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910760" y="2994840"/>
                <a:ext cx="509760" cy="3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117120" y="2969640"/>
                <a:ext cx="509760" cy="3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8327160" y="2982240"/>
                <a:ext cx="509760" cy="3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214080" y="4825440"/>
                <a:ext cx="662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yse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352120" y="4800240"/>
                <a:ext cx="7581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orm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519320" y="4800240"/>
                <a:ext cx="928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hrivele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1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68D9-2C61-4106-974D-2286BA9C9E8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6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imals and other organisms without rigid cell walls living in hypertonic or hypotonic environ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have special adaptations for osmo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8327160" y="4150800"/>
            <a:ext cx="50976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273600" y="3454200"/>
            <a:ext cx="8718120" cy="2909160"/>
            <a:chOff x="273600" y="3454200"/>
            <a:chExt cx="8718120" cy="2909160"/>
          </a:xfrm>
        </p:grpSpPr>
        <p:pic>
          <p:nvPicPr>
            <p:cNvPr id="556" name="" descr=""/>
            <p:cNvPicPr/>
            <p:nvPr/>
          </p:nvPicPr>
          <p:blipFill>
            <a:blip r:embed="rId1"/>
            <a:stretch/>
          </p:blipFill>
          <p:spPr>
            <a:xfrm>
              <a:off x="2514600" y="3733920"/>
              <a:ext cx="6477120" cy="25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"/>
            <p:cNvSpPr/>
            <p:nvPr/>
          </p:nvSpPr>
          <p:spPr>
            <a:xfrm>
              <a:off x="273600" y="6057720"/>
              <a:ext cx="117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7.13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641320" y="3454200"/>
              <a:ext cx="1796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ypotonic sol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847400" y="3466800"/>
              <a:ext cx="1609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sotonic sol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63920" y="3454200"/>
              <a:ext cx="1856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ypertonic sol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6080" y="3719160"/>
              <a:ext cx="192384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imal cell. 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imal cell fares b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 an isotonic environ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nt unless it h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ecial adaptations 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ffset the osmot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ptake or loss 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te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7920" y="3720600"/>
              <a:ext cx="402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920040" y="4214160"/>
              <a:ext cx="5097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910760" y="4163400"/>
              <a:ext cx="5097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117120" y="4138200"/>
              <a:ext cx="5097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214080" y="5994000"/>
              <a:ext cx="662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y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352120" y="5968800"/>
              <a:ext cx="758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orm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519320" y="5968800"/>
              <a:ext cx="928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hrivel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6C22-D647-4EC9-B15A-3B62DBE15EA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Water Balance of Cells with Wall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ll wa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maintain water bal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E5A1-A34C-49C1-A58D-3897F6F9C98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0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a plant cell is turg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in a hypotonic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very firm, a healthy state in most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4BF2-0FF5-44A0-96D5-E89441CB2D0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pt 7.1: Cellular membranes are fluid mosaics of lipids and prote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ospholip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 most abundant lipid in the plasma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amphipathic, containing both hydrophobic and hydrophilic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96080" y="6477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E47B-395E-490F-B313-1C248A53DA4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a plant cell is flacc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in an isotonic or hypertonic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14EE-649C-4CC3-BCF4-BF70C2B6B90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 balance in cells with wa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303480" y="2599920"/>
            <a:ext cx="8635320" cy="3839400"/>
            <a:chOff x="303480" y="2599920"/>
            <a:chExt cx="8635320" cy="3839400"/>
          </a:xfrm>
        </p:grpSpPr>
        <p:grpSp>
          <p:nvGrpSpPr>
            <p:cNvPr id="582" name=""/>
            <p:cNvGrpSpPr/>
            <p:nvPr/>
          </p:nvGrpSpPr>
          <p:grpSpPr>
            <a:xfrm>
              <a:off x="303480" y="2599920"/>
              <a:ext cx="8635320" cy="2657880"/>
              <a:chOff x="303480" y="2599920"/>
              <a:chExt cx="8635320" cy="2657880"/>
            </a:xfrm>
          </p:grpSpPr>
          <p:pic>
            <p:nvPicPr>
              <p:cNvPr id="58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539800" y="2698920"/>
                <a:ext cx="6399000" cy="25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4" name=""/>
              <p:cNvSpPr/>
              <p:nvPr/>
            </p:nvSpPr>
            <p:spPr>
              <a:xfrm>
                <a:off x="592920" y="2599920"/>
                <a:ext cx="1936080" cy="222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lant cell.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Plant cells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re turgid (firm) and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enerally healthiest i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 hypotonic environ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ent, where th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uptake of water i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ventually balance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y the elastic wal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ushing back on th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ell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03480" y="2601720"/>
                <a:ext cx="412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b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325360" y="2993400"/>
                <a:ext cx="509760" cy="3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090120" y="2993400"/>
                <a:ext cx="509760" cy="3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845600" y="3031560"/>
                <a:ext cx="509760" cy="3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699280" y="3069720"/>
                <a:ext cx="509760" cy="3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803680" y="4925880"/>
                <a:ext cx="14025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urgid (normal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269680" y="4925880"/>
                <a:ext cx="750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lacc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275240" y="4938480"/>
                <a:ext cx="1197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lasmolyze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3" name=""/>
            <p:cNvSpPr/>
            <p:nvPr/>
          </p:nvSpPr>
          <p:spPr>
            <a:xfrm>
              <a:off x="427320" y="6133680"/>
              <a:ext cx="117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7.13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4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5DAB-44CA-412C-9B7F-4CA621857B7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4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Facilitated Diffusion: Passive Transport Aided by Proteins</a:t>
            </a:r>
            <a:endParaRPr b="1" lang="en-US" sz="2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facilitated diff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 proteins speed the movement of molecules across the plasma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19A8-0CD2-456B-8A00-6A56DE1D8CE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nnel prote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corridors that allow a specific molecule or ion to cross the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1100160" y="2514600"/>
            <a:ext cx="7078680" cy="3848400"/>
            <a:chOff x="1100160" y="2514600"/>
            <a:chExt cx="7078680" cy="3848400"/>
          </a:xfrm>
        </p:grpSpPr>
        <p:sp>
          <p:nvSpPr>
            <p:cNvPr id="601" name=""/>
            <p:cNvSpPr/>
            <p:nvPr/>
          </p:nvSpPr>
          <p:spPr>
            <a:xfrm>
              <a:off x="1100160" y="6087960"/>
              <a:ext cx="1035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7.15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2" name="" descr=""/>
            <p:cNvPicPr/>
            <p:nvPr/>
          </p:nvPicPr>
          <p:blipFill>
            <a:blip r:embed="rId1"/>
            <a:stretch/>
          </p:blipFill>
          <p:spPr>
            <a:xfrm>
              <a:off x="1168560" y="2514600"/>
              <a:ext cx="7010280" cy="323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1212480" y="2590920"/>
              <a:ext cx="14835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RACELLUL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LU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689920" y="4856040"/>
              <a:ext cx="12654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annel prote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987080" y="497052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lu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977160" y="5237280"/>
              <a:ext cx="1126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YTOPLAS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393920" y="5562720"/>
              <a:ext cx="39798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channel protein (purple) has a channel through which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ater molecules or a specific solute can pas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104480" y="5554800"/>
              <a:ext cx="370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3924000" y="4597560"/>
              <a:ext cx="30492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4749840" y="5122800"/>
              <a:ext cx="30492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81D9-1DA7-4588-BCBE-77A7F710EB3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rrier prote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go a subtle change in shape that translocates the solute-binding site across the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790560" y="2768760"/>
            <a:ext cx="7134120" cy="3629160"/>
            <a:chOff x="790560" y="2768760"/>
            <a:chExt cx="7134120" cy="3629160"/>
          </a:xfrm>
        </p:grpSpPr>
        <p:sp>
          <p:nvSpPr>
            <p:cNvPr id="615" name=""/>
            <p:cNvSpPr/>
            <p:nvPr/>
          </p:nvSpPr>
          <p:spPr>
            <a:xfrm>
              <a:off x="790560" y="6118200"/>
              <a:ext cx="1035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7.15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6" name="" descr=""/>
            <p:cNvPicPr/>
            <p:nvPr/>
          </p:nvPicPr>
          <p:blipFill>
            <a:blip r:embed="rId1"/>
            <a:stretch/>
          </p:blipFill>
          <p:spPr>
            <a:xfrm>
              <a:off x="1752480" y="2768760"/>
              <a:ext cx="6172200" cy="28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>
              <a:off x="2481480" y="5110200"/>
              <a:ext cx="1160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rrier prote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177600" y="500868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lu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909440" y="5575320"/>
              <a:ext cx="476460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carrier protein alternates between two conformations, moving 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lute across  the membrane as the shape of the protein changes.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 protein can transport the solute in either direction, with the ne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vement being down the concentration gradient of the solut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676880" y="5554800"/>
              <a:ext cx="378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3500280" y="4767120"/>
              <a:ext cx="15264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5829480" y="5160600"/>
              <a:ext cx="38088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3280-2221-42CF-AE84-46CD3EEC127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pt 7.4: Active transport uses energy to move solutes against their gradi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D0CA-316F-4C48-9496-478E4BBCD41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Need for Energy in Active Transpor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s substances against their concentration grad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energy, usually in the form of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EDB5-7C6B-47F9-8172-928CEAA0F5B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odium-potassium pum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one type of active transpor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171160" y="6066000"/>
            <a:ext cx="852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gure 7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195880" y="5710320"/>
            <a:ext cx="23544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396400" y="5762880"/>
            <a:ext cx="26568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330720" y="2000520"/>
            <a:ext cx="8312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LUI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1905120" y="1981080"/>
            <a:ext cx="5692320" cy="3993480"/>
            <a:chOff x="1905120" y="1981080"/>
            <a:chExt cx="5692320" cy="3993480"/>
          </a:xfrm>
        </p:grpSpPr>
        <p:pic>
          <p:nvPicPr>
            <p:cNvPr id="637" name="" descr=""/>
            <p:cNvPicPr/>
            <p:nvPr/>
          </p:nvPicPr>
          <p:blipFill>
            <a:blip r:embed="rId1"/>
            <a:stretch/>
          </p:blipFill>
          <p:spPr>
            <a:xfrm>
              <a:off x="3387600" y="2039760"/>
              <a:ext cx="2224080" cy="3872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8" name=""/>
            <p:cNvGrpSpPr/>
            <p:nvPr/>
          </p:nvGrpSpPr>
          <p:grpSpPr>
            <a:xfrm>
              <a:off x="5636520" y="1981080"/>
              <a:ext cx="1366200" cy="374040"/>
              <a:chOff x="5636520" y="1981080"/>
              <a:chExt cx="1366200" cy="374040"/>
            </a:xfrm>
          </p:grpSpPr>
          <p:sp>
            <p:nvSpPr>
              <p:cNvPr id="639" name=""/>
              <p:cNvSpPr/>
              <p:nvPr/>
            </p:nvSpPr>
            <p:spPr>
              <a:xfrm>
                <a:off x="5636520" y="2019240"/>
                <a:ext cx="1366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a+ binding stimulat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hosphorylation by ATP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0" name=""/>
              <p:cNvGrpSpPr/>
              <p:nvPr/>
            </p:nvGrpSpPr>
            <p:grpSpPr>
              <a:xfrm>
                <a:off x="5651280" y="1981080"/>
                <a:ext cx="233640" cy="304560"/>
                <a:chOff x="5651280" y="1981080"/>
                <a:chExt cx="233640" cy="304560"/>
              </a:xfrm>
            </p:grpSpPr>
            <p:grpSp>
              <p:nvGrpSpPr>
                <p:cNvPr id="641" name=""/>
                <p:cNvGrpSpPr/>
                <p:nvPr/>
              </p:nvGrpSpPr>
              <p:grpSpPr>
                <a:xfrm>
                  <a:off x="5672520" y="1981080"/>
                  <a:ext cx="182880" cy="304560"/>
                  <a:chOff x="5672520" y="1981080"/>
                  <a:chExt cx="182880" cy="304560"/>
                </a:xfrm>
              </p:grpSpPr>
              <p:sp>
                <p:nvSpPr>
                  <p:cNvPr id="642" name=""/>
                  <p:cNvSpPr/>
                  <p:nvPr/>
                </p:nvSpPr>
                <p:spPr>
                  <a:xfrm>
                    <a:off x="5726520" y="2094120"/>
                    <a:ext cx="87480" cy="8748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1800" rIns="918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5672520" y="1981080"/>
                    <a:ext cx="182880" cy="304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44" name=""/>
                <p:cNvSpPr/>
                <p:nvPr/>
              </p:nvSpPr>
              <p:spPr>
                <a:xfrm>
                  <a:off x="5651280" y="2034000"/>
                  <a:ext cx="23364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45" name=""/>
            <p:cNvSpPr/>
            <p:nvPr/>
          </p:nvSpPr>
          <p:spPr>
            <a:xfrm>
              <a:off x="4935960" y="2247840"/>
              <a:ext cx="30852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0" lang="en-US" sz="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6" name=""/>
            <p:cNvGrpSpPr/>
            <p:nvPr/>
          </p:nvGrpSpPr>
          <p:grpSpPr>
            <a:xfrm>
              <a:off x="1913040" y="1994040"/>
              <a:ext cx="1499040" cy="383760"/>
              <a:chOff x="1913040" y="1994040"/>
              <a:chExt cx="1499040" cy="383760"/>
            </a:xfrm>
          </p:grpSpPr>
          <p:sp>
            <p:nvSpPr>
              <p:cNvPr id="647" name=""/>
              <p:cNvSpPr/>
              <p:nvPr/>
            </p:nvSpPr>
            <p:spPr>
              <a:xfrm>
                <a:off x="1914840" y="2041920"/>
                <a:ext cx="14972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ytoplasmic Na</a:t>
                </a: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binds t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he sodium-potassium pump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8" name=""/>
              <p:cNvGrpSpPr/>
              <p:nvPr/>
            </p:nvGrpSpPr>
            <p:grpSpPr>
              <a:xfrm>
                <a:off x="1913040" y="1994040"/>
                <a:ext cx="233640" cy="304920"/>
                <a:chOff x="1913040" y="1994040"/>
                <a:chExt cx="233640" cy="304920"/>
              </a:xfrm>
            </p:grpSpPr>
            <p:grpSp>
              <p:nvGrpSpPr>
                <p:cNvPr id="649" name=""/>
                <p:cNvGrpSpPr/>
                <p:nvPr/>
              </p:nvGrpSpPr>
              <p:grpSpPr>
                <a:xfrm>
                  <a:off x="1932840" y="1994040"/>
                  <a:ext cx="183960" cy="304920"/>
                  <a:chOff x="1932840" y="1994040"/>
                  <a:chExt cx="183960" cy="304920"/>
                </a:xfrm>
              </p:grpSpPr>
              <p:sp>
                <p:nvSpPr>
                  <p:cNvPr id="650" name=""/>
                  <p:cNvSpPr/>
                  <p:nvPr/>
                </p:nvSpPr>
                <p:spPr>
                  <a:xfrm>
                    <a:off x="1987200" y="2105640"/>
                    <a:ext cx="87840" cy="8748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1800" rIns="918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1932840" y="1994040"/>
                    <a:ext cx="183960" cy="304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2" name=""/>
                <p:cNvSpPr/>
                <p:nvPr/>
              </p:nvSpPr>
              <p:spPr>
                <a:xfrm>
                  <a:off x="1913040" y="2046240"/>
                  <a:ext cx="23364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53" name=""/>
            <p:cNvGrpSpPr/>
            <p:nvPr/>
          </p:nvGrpSpPr>
          <p:grpSpPr>
            <a:xfrm>
              <a:off x="1905120" y="3892680"/>
              <a:ext cx="1420200" cy="494280"/>
              <a:chOff x="1905120" y="3892680"/>
              <a:chExt cx="1420200" cy="494280"/>
            </a:xfrm>
          </p:grpSpPr>
          <p:sp>
            <p:nvSpPr>
              <p:cNvPr id="654" name=""/>
              <p:cNvSpPr/>
              <p:nvPr/>
            </p:nvSpPr>
            <p:spPr>
              <a:xfrm>
                <a:off x="1974240" y="3929400"/>
                <a:ext cx="135108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is released and Na</a:t>
                </a: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tes are receptive again;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he cycle repeats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5" name=""/>
              <p:cNvGrpSpPr/>
              <p:nvPr/>
            </p:nvGrpSpPr>
            <p:grpSpPr>
              <a:xfrm>
                <a:off x="1905120" y="3892680"/>
                <a:ext cx="233640" cy="304560"/>
                <a:chOff x="1905120" y="3892680"/>
                <a:chExt cx="233640" cy="304560"/>
              </a:xfrm>
            </p:grpSpPr>
            <p:grpSp>
              <p:nvGrpSpPr>
                <p:cNvPr id="656" name=""/>
                <p:cNvGrpSpPr/>
                <p:nvPr/>
              </p:nvGrpSpPr>
              <p:grpSpPr>
                <a:xfrm>
                  <a:off x="1923840" y="3892680"/>
                  <a:ext cx="183960" cy="304560"/>
                  <a:chOff x="1923840" y="3892680"/>
                  <a:chExt cx="183960" cy="304560"/>
                </a:xfrm>
              </p:grpSpPr>
              <p:sp>
                <p:nvSpPr>
                  <p:cNvPr id="657" name=""/>
                  <p:cNvSpPr/>
                  <p:nvPr/>
                </p:nvSpPr>
                <p:spPr>
                  <a:xfrm>
                    <a:off x="1978560" y="4003200"/>
                    <a:ext cx="87480" cy="8748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1800" rIns="918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1923840" y="3892680"/>
                    <a:ext cx="183960" cy="304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9" name=""/>
                <p:cNvSpPr/>
                <p:nvPr/>
              </p:nvSpPr>
              <p:spPr>
                <a:xfrm>
                  <a:off x="1905120" y="3943800"/>
                  <a:ext cx="23364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60" name=""/>
            <p:cNvGrpSpPr/>
            <p:nvPr/>
          </p:nvGrpSpPr>
          <p:grpSpPr>
            <a:xfrm>
              <a:off x="5638680" y="3886200"/>
              <a:ext cx="1958760" cy="499320"/>
              <a:chOff x="5638680" y="3886200"/>
              <a:chExt cx="1958760" cy="499320"/>
            </a:xfrm>
          </p:grpSpPr>
          <p:sp>
            <p:nvSpPr>
              <p:cNvPr id="661" name=""/>
              <p:cNvSpPr/>
              <p:nvPr/>
            </p:nvSpPr>
            <p:spPr>
              <a:xfrm>
                <a:off x="5711760" y="3927960"/>
                <a:ext cx="188568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hosphorylation causes the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otein to change its conformation, expelling Na</a:t>
                </a: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to the outside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2" name=""/>
              <p:cNvGrpSpPr/>
              <p:nvPr/>
            </p:nvGrpSpPr>
            <p:grpSpPr>
              <a:xfrm>
                <a:off x="5638680" y="3886200"/>
                <a:ext cx="233640" cy="304920"/>
                <a:chOff x="5638680" y="3886200"/>
                <a:chExt cx="233640" cy="304920"/>
              </a:xfrm>
            </p:grpSpPr>
            <p:grpSp>
              <p:nvGrpSpPr>
                <p:cNvPr id="663" name=""/>
                <p:cNvGrpSpPr/>
                <p:nvPr/>
              </p:nvGrpSpPr>
              <p:grpSpPr>
                <a:xfrm>
                  <a:off x="5661000" y="3886200"/>
                  <a:ext cx="183240" cy="304920"/>
                  <a:chOff x="5661000" y="3886200"/>
                  <a:chExt cx="183240" cy="304920"/>
                </a:xfrm>
              </p:grpSpPr>
              <p:sp>
                <p:nvSpPr>
                  <p:cNvPr id="664" name=""/>
                  <p:cNvSpPr/>
                  <p:nvPr/>
                </p:nvSpPr>
                <p:spPr>
                  <a:xfrm>
                    <a:off x="5715360" y="3999600"/>
                    <a:ext cx="87120" cy="8784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1800" rIns="918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5661000" y="3886200"/>
                    <a:ext cx="183240" cy="304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66" name=""/>
                <p:cNvSpPr/>
                <p:nvPr/>
              </p:nvSpPr>
              <p:spPr>
                <a:xfrm>
                  <a:off x="5638680" y="3941640"/>
                  <a:ext cx="23364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Arial"/>
                    </a:rPr>
                    <a:t>4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67" name=""/>
            <p:cNvGrpSpPr/>
            <p:nvPr/>
          </p:nvGrpSpPr>
          <p:grpSpPr>
            <a:xfrm>
              <a:off x="5646600" y="5483160"/>
              <a:ext cx="1727280" cy="491400"/>
              <a:chOff x="5646600" y="5483160"/>
              <a:chExt cx="1727280" cy="491400"/>
            </a:xfrm>
          </p:grpSpPr>
          <p:sp>
            <p:nvSpPr>
              <p:cNvPr id="668" name=""/>
              <p:cNvSpPr/>
              <p:nvPr/>
            </p:nvSpPr>
            <p:spPr>
              <a:xfrm>
                <a:off x="5719680" y="5517000"/>
                <a:ext cx="16542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xtracellular K</a:t>
                </a: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binds to the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otein, triggering release of the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hosphate group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9" name=""/>
              <p:cNvGrpSpPr/>
              <p:nvPr/>
            </p:nvGrpSpPr>
            <p:grpSpPr>
              <a:xfrm>
                <a:off x="5646600" y="5483160"/>
                <a:ext cx="233640" cy="304920"/>
                <a:chOff x="5646600" y="5483160"/>
                <a:chExt cx="233640" cy="304920"/>
              </a:xfrm>
            </p:grpSpPr>
            <p:grpSp>
              <p:nvGrpSpPr>
                <p:cNvPr id="670" name=""/>
                <p:cNvGrpSpPr/>
                <p:nvPr/>
              </p:nvGrpSpPr>
              <p:grpSpPr>
                <a:xfrm>
                  <a:off x="5667840" y="5483160"/>
                  <a:ext cx="185760" cy="304920"/>
                  <a:chOff x="5667840" y="5483160"/>
                  <a:chExt cx="185760" cy="304920"/>
                </a:xfrm>
              </p:grpSpPr>
              <p:sp>
                <p:nvSpPr>
                  <p:cNvPr id="671" name=""/>
                  <p:cNvSpPr/>
                  <p:nvPr/>
                </p:nvSpPr>
                <p:spPr>
                  <a:xfrm>
                    <a:off x="5722560" y="5594040"/>
                    <a:ext cx="87480" cy="8784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1800" rIns="918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5667840" y="5483160"/>
                    <a:ext cx="185760" cy="304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73" name=""/>
                <p:cNvSpPr/>
                <p:nvPr/>
              </p:nvSpPr>
              <p:spPr>
                <a:xfrm>
                  <a:off x="5646600" y="5534280"/>
                  <a:ext cx="23364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Arial"/>
                    </a:rPr>
                    <a:t>6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4" name=""/>
            <p:cNvGrpSpPr/>
            <p:nvPr/>
          </p:nvGrpSpPr>
          <p:grpSpPr>
            <a:xfrm>
              <a:off x="1913040" y="5468760"/>
              <a:ext cx="1293480" cy="497520"/>
              <a:chOff x="1913040" y="5468760"/>
              <a:chExt cx="1293480" cy="497520"/>
            </a:xfrm>
          </p:grpSpPr>
          <p:sp>
            <p:nvSpPr>
              <p:cNvPr id="675" name=""/>
              <p:cNvSpPr/>
              <p:nvPr/>
            </p:nvSpPr>
            <p:spPr>
              <a:xfrm>
                <a:off x="1986840" y="5508720"/>
                <a:ext cx="121968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oss of the phosphat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estores the protein’s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riginal conformation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6" name=""/>
              <p:cNvGrpSpPr/>
              <p:nvPr/>
            </p:nvGrpSpPr>
            <p:grpSpPr>
              <a:xfrm>
                <a:off x="1913040" y="5468760"/>
                <a:ext cx="233640" cy="304560"/>
                <a:chOff x="1913040" y="5468760"/>
                <a:chExt cx="233640" cy="304560"/>
              </a:xfrm>
            </p:grpSpPr>
            <p:grpSp>
              <p:nvGrpSpPr>
                <p:cNvPr id="677" name=""/>
                <p:cNvGrpSpPr/>
                <p:nvPr/>
              </p:nvGrpSpPr>
              <p:grpSpPr>
                <a:xfrm>
                  <a:off x="1934280" y="5468760"/>
                  <a:ext cx="183960" cy="304560"/>
                  <a:chOff x="1934280" y="5468760"/>
                  <a:chExt cx="183960" cy="304560"/>
                </a:xfrm>
              </p:grpSpPr>
              <p:sp>
                <p:nvSpPr>
                  <p:cNvPr id="678" name=""/>
                  <p:cNvSpPr/>
                  <p:nvPr/>
                </p:nvSpPr>
                <p:spPr>
                  <a:xfrm>
                    <a:off x="1986840" y="5579280"/>
                    <a:ext cx="88200" cy="8748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1800" rIns="918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1934280" y="5468760"/>
                    <a:ext cx="183960" cy="304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80" name=""/>
                <p:cNvSpPr/>
                <p:nvPr/>
              </p:nvSpPr>
              <p:spPr>
                <a:xfrm>
                  <a:off x="1913040" y="5519880"/>
                  <a:ext cx="23364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Arial"/>
                    </a:rPr>
                    <a:t>5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81" name=""/>
            <p:cNvSpPr/>
            <p:nvPr/>
          </p:nvSpPr>
          <p:spPr>
            <a:xfrm>
              <a:off x="3314520" y="2797200"/>
              <a:ext cx="6544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YTOPLAS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07080" y="2683080"/>
              <a:ext cx="48672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[Na</a:t>
              </a:r>
              <a:r>
                <a:rPr b="0" lang="en-US" sz="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] low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[K</a:t>
              </a:r>
              <a:r>
                <a:rPr b="0" lang="en-US" sz="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] high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665880" y="2259000"/>
              <a:ext cx="30852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0" lang="en-US" sz="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40680" y="2416320"/>
              <a:ext cx="30852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0" lang="en-US" sz="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704040" y="2727360"/>
              <a:ext cx="30852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0" lang="en-US" sz="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916880" y="2381400"/>
              <a:ext cx="30852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0" lang="en-US" sz="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899600" y="2536920"/>
              <a:ext cx="30852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0" lang="en-US" sz="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154480" y="2711520"/>
              <a:ext cx="23544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335200" y="2676600"/>
              <a:ext cx="33300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07400" y="3421080"/>
              <a:ext cx="30852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0" lang="en-US" sz="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043960" y="3490920"/>
              <a:ext cx="30852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0" lang="en-US" sz="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026320" y="3664080"/>
              <a:ext cx="30852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0" lang="en-US" sz="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154480" y="4151160"/>
              <a:ext cx="23544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040720" y="2778120"/>
              <a:ext cx="3405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733920" y="3970440"/>
              <a:ext cx="2613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719880" y="4165560"/>
              <a:ext cx="2613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787920" y="5318280"/>
              <a:ext cx="2613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810240" y="5481720"/>
              <a:ext cx="2613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083560" y="5442120"/>
              <a:ext cx="2613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059440" y="5076720"/>
              <a:ext cx="2613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75040" y="2070360"/>
              <a:ext cx="51732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[Na</a:t>
              </a:r>
              <a:r>
                <a:rPr b="0" lang="en-US" sz="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] high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[K</a:t>
              </a:r>
              <a:r>
                <a:rPr b="0" lang="en-US" sz="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] low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B54E-9100-4917-AA04-76A9071F0BF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6868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view: Passive and active transport compa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79080" y="6176880"/>
            <a:ext cx="992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7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4421880" y="4445640"/>
            <a:ext cx="61920" cy="1835280"/>
          </a:xfrm>
          <a:custGeom>
            <a:avLst/>
            <a:gdLst>
              <a:gd name="textAreaLeft" fmla="*/ 39600 w 61920"/>
              <a:gd name="textAreaRight" fmla="*/ 62280 w 61920"/>
              <a:gd name="textAreaTop" fmla="*/ 47520 h 1835280"/>
              <a:gd name="textAreaBottom" fmla="*/ 1787760 h 18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1892160" y="1536840"/>
            <a:ext cx="6337440" cy="4711680"/>
            <a:chOff x="1892160" y="1536840"/>
            <a:chExt cx="6337440" cy="4711680"/>
          </a:xfrm>
        </p:grpSpPr>
        <p:sp>
          <p:nvSpPr>
            <p:cNvPr id="708" name=""/>
            <p:cNvSpPr/>
            <p:nvPr/>
          </p:nvSpPr>
          <p:spPr>
            <a:xfrm>
              <a:off x="1901520" y="1536840"/>
              <a:ext cx="345240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assive transport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 Substances diffuse spontaneously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own their concentration gradients, crossing a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mbrane with no expenditure of energy by the cell.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he rate of diffusion can be greatly increased by transpor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teins in the membrane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45080" y="1636560"/>
              <a:ext cx="26845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ctive transport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 Some transport proteins act as pumps, moving substances across a membrane against their concentration gradients. Energy for this work is usually supplied by ATP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0" name="" descr=""/>
            <p:cNvPicPr/>
            <p:nvPr/>
          </p:nvPicPr>
          <p:blipFill>
            <a:blip r:embed="rId1"/>
            <a:stretch/>
          </p:blipFill>
          <p:spPr>
            <a:xfrm>
              <a:off x="1954080" y="2600280"/>
              <a:ext cx="5761080" cy="364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"/>
            <p:cNvSpPr/>
            <p:nvPr/>
          </p:nvSpPr>
          <p:spPr>
            <a:xfrm>
              <a:off x="1892160" y="5373720"/>
              <a:ext cx="194796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ffusion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Hydrophobi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lecules and (at a slow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ate) very small uncharged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lar molecules can diffuse through the lipid bilayer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530520" y="5375160"/>
              <a:ext cx="20923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acilitated diffusion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Many hydrophilic substances diffuse through membranes with the assistance of transport proteins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ither channel or carrier proteins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rot="5400000">
              <a:off x="3588480" y="695880"/>
              <a:ext cx="208080" cy="3574800"/>
            </a:xfrm>
            <a:custGeom>
              <a:avLst/>
              <a:gdLst>
                <a:gd name="textAreaLeft" fmla="*/ 132840 w 208080"/>
                <a:gd name="textAreaRight" fmla="*/ 208440 w 208080"/>
                <a:gd name="textAreaTop" fmla="*/ 93240 h 3574800"/>
                <a:gd name="textAreaBottom" fmla="*/ 3481560 h 357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058440" y="5237280"/>
              <a:ext cx="3848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EE56-48A5-44C5-8741-AE50A258456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Web sites to demonstrate transpor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3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47400" indent="0">
              <a:lnSpc>
                <a:spcPct val="80000"/>
              </a:lnSpc>
              <a:spcBef>
                <a:spcPts val="950"/>
              </a:spcBef>
              <a:spcAft>
                <a:spcPts val="4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 u="sng">
                <a:solidFill>
                  <a:srgbClr val="000000"/>
                </a:solidFill>
                <a:uFillTx/>
                <a:latin typeface="Monotype Corsiva"/>
              </a:rPr>
              <a:t>Passive Transport such as Diffusion, Facilitated Diffusion and Osmosis as well as Active Transpor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7400" indent="-347400">
              <a:lnSpc>
                <a:spcPct val="80000"/>
              </a:lnSpc>
              <a:spcBef>
                <a:spcPts val="950"/>
              </a:spcBef>
              <a:spcAft>
                <a:spcPts val="425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northland.cc.mn.us/biology/BIOLOGY1111/animations/transport1.htm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7400" indent="-347400">
              <a:lnSpc>
                <a:spcPct val="80000"/>
              </a:lnSpc>
              <a:spcBef>
                <a:spcPts val="950"/>
              </a:spcBef>
              <a:spcAft>
                <a:spcPts val="425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ttp://www.wiley.com/legacy/college/boyer/0470003790/animations/membrane_transport/membrane_transport.ht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7400" indent="-347400">
              <a:lnSpc>
                <a:spcPct val="80000"/>
              </a:lnSpc>
              <a:spcBef>
                <a:spcPts val="950"/>
              </a:spcBef>
              <a:spcAft>
                <a:spcPts val="425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ttp://www.tvdsb.on.ca/westmin/science/sbi3a1/Cells/osmosis.ht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7400" indent="-347400">
              <a:lnSpc>
                <a:spcPct val="80000"/>
              </a:lnSpc>
              <a:spcBef>
                <a:spcPts val="950"/>
              </a:spcBef>
              <a:spcAft>
                <a:spcPts val="425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ttp://www.mhhe.com/biosci/esp/2001_gbio/folder_structure/ce/m3/s3/cem3s3_3.ht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7400" indent="-347400">
              <a:lnSpc>
                <a:spcPct val="80000"/>
              </a:lnSpc>
              <a:spcBef>
                <a:spcPts val="950"/>
              </a:spcBef>
              <a:spcAft>
                <a:spcPts val="425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ttp://www2.nl.edu/jste/osmosis.htm#osmosi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7400"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(go to the end to drop the cells into different concentra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400" indent="0">
              <a:lnSpc>
                <a:spcPct val="80000"/>
              </a:lnSpc>
              <a:spcBef>
                <a:spcPts val="45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7400" indent="0">
              <a:lnSpc>
                <a:spcPct val="80000"/>
              </a:lnSpc>
              <a:spcBef>
                <a:spcPts val="950"/>
              </a:spcBef>
              <a:spcAft>
                <a:spcPts val="4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 u="sng">
                <a:solidFill>
                  <a:srgbClr val="000000"/>
                </a:solidFill>
                <a:uFillTx/>
                <a:latin typeface="Monotype Corsiva"/>
              </a:rPr>
              <a:t>PINOCYTOS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7400" indent="-347400">
              <a:lnSpc>
                <a:spcPct val="80000"/>
              </a:lnSpc>
              <a:spcBef>
                <a:spcPts val="950"/>
              </a:spcBef>
              <a:spcAft>
                <a:spcPts val="425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ttp://student.ccbcmd.edu/~gkaiser/biotutorials/eustruct/pinocyt.htm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7400" indent="0">
              <a:lnSpc>
                <a:spcPct val="80000"/>
              </a:lnSpc>
              <a:spcBef>
                <a:spcPts val="950"/>
              </a:spcBef>
              <a:spcAft>
                <a:spcPts val="4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at organelle is being formed when the C.M. is pinches off as illustrated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7400" indent="0">
              <a:lnSpc>
                <a:spcPct val="80000"/>
              </a:lnSpc>
              <a:spcBef>
                <a:spcPts val="950"/>
              </a:spcBef>
              <a:spcAft>
                <a:spcPts val="4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at is the membrane of a vacuole made of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7400" indent="0">
              <a:lnSpc>
                <a:spcPct val="80000"/>
              </a:lnSpc>
              <a:spcBef>
                <a:spcPts val="45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7400" indent="0">
              <a:lnSpc>
                <a:spcPct val="80000"/>
              </a:lnSpc>
              <a:spcBef>
                <a:spcPts val="950"/>
              </a:spcBef>
              <a:spcAft>
                <a:spcPts val="4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 u="sng">
                <a:solidFill>
                  <a:srgbClr val="000000"/>
                </a:solidFill>
                <a:uFillTx/>
                <a:latin typeface="Monotype Corsiva"/>
              </a:rPr>
              <a:t>PHAGOCYTOS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7400" indent="-347400">
              <a:lnSpc>
                <a:spcPct val="80000"/>
              </a:lnSpc>
              <a:spcBef>
                <a:spcPts val="950"/>
              </a:spcBef>
              <a:spcAft>
                <a:spcPts val="425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ttp://student.ccbcmd.edu/~gkaiser/biotutorials/eustruct/phagocyt.htm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7400" indent="0">
              <a:lnSpc>
                <a:spcPct val="80000"/>
              </a:lnSpc>
              <a:spcBef>
                <a:spcPts val="950"/>
              </a:spcBef>
              <a:spcAft>
                <a:spcPts val="4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at is the role of the Lysosome here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68F7-24FB-47F1-9C9D-5219DEB58F7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fluid mosaic model of membrane stru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s that a membrane is a fluid structure with a “mosaic” of various proteins embedded in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96080" y="6477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37C9-BDA4-41A0-83D8-6977771FCE3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Maintenance of Membrane Potential by Ion Pump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mbrane potent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voltage difference across a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AC57-3AAB-4843-A71D-3CB25A947E0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electrochemical gradi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caused by the concentration electrical gradient of ions across a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D021-D99C-46CD-9BC6-DF97AB996F2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electrogenic pum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transport protein that generates the voltage across a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34600" y="6102720"/>
            <a:ext cx="1254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7.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1994040" y="2590920"/>
            <a:ext cx="5943600" cy="3732120"/>
            <a:chOff x="1994040" y="2590920"/>
            <a:chExt cx="5943600" cy="3732120"/>
          </a:xfrm>
        </p:grpSpPr>
        <p:sp>
          <p:nvSpPr>
            <p:cNvPr id="729" name=""/>
            <p:cNvSpPr/>
            <p:nvPr/>
          </p:nvSpPr>
          <p:spPr>
            <a:xfrm>
              <a:off x="5985360" y="2742480"/>
              <a:ext cx="19101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XTRACELLUL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LU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501880" y="5796360"/>
              <a:ext cx="303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1" name="" descr=""/>
            <p:cNvPicPr/>
            <p:nvPr/>
          </p:nvPicPr>
          <p:blipFill>
            <a:blip r:embed="rId1"/>
            <a:stretch/>
          </p:blipFill>
          <p:spPr>
            <a:xfrm>
              <a:off x="1994040" y="2590920"/>
              <a:ext cx="5943600" cy="373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"/>
            <p:cNvSpPr/>
            <p:nvPr/>
          </p:nvSpPr>
          <p:spPr>
            <a:xfrm>
              <a:off x="6255360" y="3372120"/>
              <a:ext cx="399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598440" y="3867480"/>
              <a:ext cx="399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050600" y="5005800"/>
              <a:ext cx="399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80760" y="4662720"/>
              <a:ext cx="399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039360" y="5726520"/>
              <a:ext cx="399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805840" y="4199400"/>
              <a:ext cx="399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043880" y="4056480"/>
              <a:ext cx="13464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ton pu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693160" y="3277080"/>
              <a:ext cx="579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047320" y="5532840"/>
              <a:ext cx="14364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YTOPLAS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435280" y="2787840"/>
              <a:ext cx="303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474880" y="3321360"/>
              <a:ext cx="303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586120" y="4510440"/>
              <a:ext cx="303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576760" y="5029560"/>
              <a:ext cx="303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657240" y="526608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553920" y="590436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563640" y="269280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657240" y="318168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715920" y="462960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486040" y="5683680"/>
              <a:ext cx="303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F0A4-6B41-487B-9630-A570BD0A16F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4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Cotransport: Coupled Transport by a Membrane Protein</a:t>
            </a:r>
            <a:endParaRPr b="1" lang="en-US" sz="2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trans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when active transport of a specific solute indirectly drives the active transport of another solu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AD23-7C97-47D1-ABEA-3E3F70F6111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transport: active transport driven by a concentration gradi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291680" y="1968120"/>
            <a:ext cx="6402960" cy="4292640"/>
            <a:chOff x="1291680" y="1968120"/>
            <a:chExt cx="6402960" cy="4292640"/>
          </a:xfrm>
        </p:grpSpPr>
        <p:sp>
          <p:nvSpPr>
            <p:cNvPr id="758" name=""/>
            <p:cNvSpPr/>
            <p:nvPr/>
          </p:nvSpPr>
          <p:spPr>
            <a:xfrm>
              <a:off x="1291680" y="5924880"/>
              <a:ext cx="1254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gure 7.1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9" name="" descr=""/>
            <p:cNvPicPr/>
            <p:nvPr/>
          </p:nvPicPr>
          <p:blipFill>
            <a:blip r:embed="rId1"/>
            <a:stretch/>
          </p:blipFill>
          <p:spPr>
            <a:xfrm>
              <a:off x="2590920" y="1998720"/>
              <a:ext cx="5103720" cy="41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"/>
            <p:cNvSpPr/>
            <p:nvPr/>
          </p:nvSpPr>
          <p:spPr>
            <a:xfrm>
              <a:off x="3993120" y="2887920"/>
              <a:ext cx="13464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ton pu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093920" y="4444200"/>
              <a:ext cx="13798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crose-H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transpor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605640" y="4180680"/>
              <a:ext cx="9759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ffu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f H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131880" y="5775480"/>
              <a:ext cx="930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cro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923920" y="2211120"/>
              <a:ext cx="531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706000" y="2173680"/>
              <a:ext cx="399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988680" y="2314800"/>
              <a:ext cx="399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709320" y="2821320"/>
              <a:ext cx="399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231600" y="4138920"/>
              <a:ext cx="399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688800" y="4903920"/>
              <a:ext cx="399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165080" y="3780000"/>
              <a:ext cx="399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077280" y="3035520"/>
              <a:ext cx="399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185800" y="2464920"/>
              <a:ext cx="288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154120" y="2009520"/>
              <a:ext cx="288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431680" y="3519000"/>
              <a:ext cx="288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468400" y="4095360"/>
              <a:ext cx="288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417640" y="5371920"/>
              <a:ext cx="288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336640" y="5787720"/>
              <a:ext cx="288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645720" y="573696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68120" y="529236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888720" y="385236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837960" y="347796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693240" y="248868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553560" y="196812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1E14-1EAF-4067-BABD-C5700683AB7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30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pt 7.5: Bulk transport across the plasma membrane occurs by exocytosis and endocyto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rge prote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 the membrane by different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5ED8-1D77-4A52-9A36-DBDBAF8D1CE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Exocytosi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exocyto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 vesicles migrate to the plasma membrane, fuse with it, and release their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1584-D032-4823-89D1-1DBF2019A3A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Endocytosi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endocyto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ell takes in macromolecules by forming new vesicles from the plasma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6D4A-F39F-4912-A4B9-BA693D9B5B0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4" name=""/>
          <p:cNvGrpSpPr/>
          <p:nvPr/>
        </p:nvGrpSpPr>
        <p:grpSpPr>
          <a:xfrm>
            <a:off x="858240" y="1560600"/>
            <a:ext cx="7752240" cy="4562280"/>
            <a:chOff x="858240" y="1560600"/>
            <a:chExt cx="7752240" cy="4562280"/>
          </a:xfrm>
        </p:grpSpPr>
        <p:pic>
          <p:nvPicPr>
            <p:cNvPr id="795" name="" descr=""/>
            <p:cNvPicPr/>
            <p:nvPr/>
          </p:nvPicPr>
          <p:blipFill>
            <a:blip r:embed="rId1"/>
            <a:stretch/>
          </p:blipFill>
          <p:spPr>
            <a:xfrm>
              <a:off x="2773440" y="1560600"/>
              <a:ext cx="5511600" cy="456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6" name=""/>
            <p:cNvSpPr/>
            <p:nvPr/>
          </p:nvSpPr>
          <p:spPr>
            <a:xfrm>
              <a:off x="2705400" y="1734120"/>
              <a:ext cx="13708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XTRACELLULA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LUI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835440" y="2001960"/>
              <a:ext cx="111780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seudopodiu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564080" y="1827360"/>
              <a:ext cx="104760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YTOPLAS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855240" y="2805840"/>
              <a:ext cx="99576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ood” or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ther partic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029200" y="3204000"/>
              <a:ext cx="666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oo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vacuo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665840" y="1806480"/>
              <a:ext cx="50040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 µ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245360" y="2319840"/>
              <a:ext cx="11178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seudopodiu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f amoeb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985000" y="2986200"/>
              <a:ext cx="8161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acteriu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979600" y="3351240"/>
              <a:ext cx="10249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ood vacuo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894640" y="3634200"/>
              <a:ext cx="24984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n amoeba engulfing a bacterium vi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hagocytosis (TEM)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472640" y="4038120"/>
              <a:ext cx="1402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INOCYTO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395520" y="2157480"/>
              <a:ext cx="530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389400" y="2687760"/>
              <a:ext cx="530280" cy="26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113440" y="3019320"/>
              <a:ext cx="198360" cy="265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6969240" y="2488680"/>
              <a:ext cx="331560" cy="6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6543720" y="2776680"/>
              <a:ext cx="465120" cy="26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6904080" y="3218040"/>
              <a:ext cx="595440" cy="26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178760" y="4579920"/>
              <a:ext cx="14317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inocytosis vesicl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orming (arrows) i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 cell lining a smal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lood vessel (TEM)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431760" y="4302360"/>
              <a:ext cx="61776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.5 µ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858240" y="4002480"/>
              <a:ext cx="1855440" cy="21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n 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inocytosis,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the cell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ulps” droplets of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xtracellular fluid into tin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vesicles. It is not the flui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tself that is needed by the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ell, but the molecules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issolved in the droplet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ecause any and all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ncluded solutes are take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nto the cell, pinocytosis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s nonspecific in the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ubstances it transports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048920" y="4407480"/>
              <a:ext cx="855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lasm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166720" y="5659560"/>
              <a:ext cx="63468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Vesic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776760" y="4543560"/>
              <a:ext cx="331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445000" y="5472000"/>
              <a:ext cx="0" cy="265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862920" y="1437120"/>
            <a:ext cx="1721160" cy="21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hagocytosis,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a ce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gulfs a particle by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rapping pseudopodi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round it and packaging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t within a membrane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closed sac larg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ough to be classified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s a vacuole.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article is digested afte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vacuole fuses with 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ysosome containing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ydrolytic enzymes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types of endocyto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50280" y="6133680"/>
            <a:ext cx="112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7.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323600" y="1518840"/>
            <a:ext cx="1619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HAGOCYTO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23E1-CB7A-4A20-8F8C-C2E4B5773C8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"/>
          <p:cNvGrpSpPr/>
          <p:nvPr/>
        </p:nvGrpSpPr>
        <p:grpSpPr>
          <a:xfrm>
            <a:off x="221040" y="762120"/>
            <a:ext cx="8632440" cy="5578560"/>
            <a:chOff x="221040" y="762120"/>
            <a:chExt cx="8632440" cy="5578560"/>
          </a:xfrm>
        </p:grpSpPr>
        <p:pic>
          <p:nvPicPr>
            <p:cNvPr id="827" name="" descr=""/>
            <p:cNvPicPr/>
            <p:nvPr/>
          </p:nvPicPr>
          <p:blipFill>
            <a:blip r:embed="rId1"/>
            <a:stretch/>
          </p:blipFill>
          <p:spPr>
            <a:xfrm>
              <a:off x="318960" y="825480"/>
              <a:ext cx="8534520" cy="54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8" name=""/>
            <p:cNvSpPr/>
            <p:nvPr/>
          </p:nvSpPr>
          <p:spPr>
            <a:xfrm>
              <a:off x="6455880" y="6065640"/>
              <a:ext cx="7412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25 µ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357440" y="875880"/>
              <a:ext cx="3505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RECEPTOR-MEDIATED ENDOCYTO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037760" y="1434960"/>
              <a:ext cx="80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ep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989240" y="3105000"/>
              <a:ext cx="645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g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447960" y="1193760"/>
              <a:ext cx="1018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at prote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424920" y="2857680"/>
              <a:ext cx="6789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a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859880" y="1530360"/>
              <a:ext cx="6789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a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sic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757760" y="160020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890960" y="3086280"/>
              <a:ext cx="15264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307200" y="2394000"/>
              <a:ext cx="22860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V="1">
              <a:off x="6364440" y="1358640"/>
              <a:ext cx="152280" cy="7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7989480" y="1949400"/>
              <a:ext cx="15228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524720" y="3702960"/>
              <a:ext cx="1163520" cy="173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coated p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d a coa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sicle form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u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eptor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dia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docytos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TEMs)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245480" y="5594400"/>
              <a:ext cx="9151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las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469400" y="3848040"/>
              <a:ext cx="6530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te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V="1">
              <a:off x="4307040" y="4051440"/>
              <a:ext cx="241200" cy="18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V="1">
              <a:off x="3913200" y="5752800"/>
              <a:ext cx="368280" cy="18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28600" y="762120"/>
              <a:ext cx="335268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21040" y="851040"/>
              <a:ext cx="3379320" cy="41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ceptor-mediated endocytosi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ables th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ell to acquire bulk quantities of specific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bstances, even though those substanc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y not be very concentrated in th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racellular fluid. Embedded in th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mbrane are proteins with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cific receptor sites exposed to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 extracellular fluid. The recep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teins are usually already clustere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 regions of the membrane called coate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its, which are lined on their cytoplasmic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de by a fuzzy layer of coat proteins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racellular substances (ligands) bin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se receptors. When binding occurs,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 coated pit forms a vesicle containing th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gand molecules. Notice that there ar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latively more bound molecules (purple)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side the vesicle, other molecul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green) are also present. After this ingeste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terial is liberated from the vesicle, th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eptors are recycled to the plasm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mbrane by the same vesicl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7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073D-6987-4E52-909A-5A62095E530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Membrane Models: </a:t>
            </a: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Scientific Inquir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mbranes have been chemically analyz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found to be composed of proteins and lip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696080" y="6477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AFB0-A414-43D9-A821-33A84183CB8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ientists studying the plasma membr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ed that it must be a phospholipid bilay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596600" y="2209680"/>
            <a:ext cx="5765760" cy="4222440"/>
            <a:chOff x="1596600" y="2209680"/>
            <a:chExt cx="5765760" cy="4222440"/>
          </a:xfrm>
        </p:grpSpPr>
        <p:sp>
          <p:nvSpPr>
            <p:cNvPr id="194" name=""/>
            <p:cNvSpPr/>
            <p:nvPr/>
          </p:nvSpPr>
          <p:spPr>
            <a:xfrm>
              <a:off x="1596600" y="6096240"/>
              <a:ext cx="114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gure 7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5" name="" descr=""/>
            <p:cNvPicPr/>
            <p:nvPr/>
          </p:nvPicPr>
          <p:blipFill>
            <a:blip r:embed="rId1"/>
            <a:stretch/>
          </p:blipFill>
          <p:spPr>
            <a:xfrm>
              <a:off x="3467160" y="2209680"/>
              <a:ext cx="3895200" cy="42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1968480" y="4821840"/>
              <a:ext cx="15663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ydrophil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954080" y="5258520"/>
              <a:ext cx="13251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ydrophob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074840" y="4576320"/>
              <a:ext cx="826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27400" y="6051240"/>
              <a:ext cx="826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090600" y="5005440"/>
              <a:ext cx="41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3219120" y="5381640"/>
              <a:ext cx="296280" cy="60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7696080" y="6477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AE37-7613-4168-9CC8-38D038ADCC6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avson-Danielli sandwich model of membrane stru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d that the membrane was made up of a phospholipid bilayer sandwiched between two protein 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supported by electron microscope pictures of membr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696080" y="6477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2D1D-334F-4D62-A5FD-50A2CB53999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1972, Singer and Nicols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d that membrane proteins are dispersed and individually inserted into the phospholipid bi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215360" y="2895480"/>
            <a:ext cx="7014240" cy="3467160"/>
            <a:chOff x="1215360" y="2895480"/>
            <a:chExt cx="7014240" cy="3467160"/>
          </a:xfrm>
        </p:grpSpPr>
        <p:sp>
          <p:nvSpPr>
            <p:cNvPr id="209" name=""/>
            <p:cNvSpPr/>
            <p:nvPr/>
          </p:nvSpPr>
          <p:spPr>
            <a:xfrm>
              <a:off x="1215360" y="5943960"/>
              <a:ext cx="114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gure 7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0" name="" descr=""/>
            <p:cNvPicPr/>
            <p:nvPr/>
          </p:nvPicPr>
          <p:blipFill>
            <a:blip r:embed="rId1"/>
            <a:stretch/>
          </p:blipFill>
          <p:spPr>
            <a:xfrm>
              <a:off x="3562200" y="2895480"/>
              <a:ext cx="4667400" cy="34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2128680" y="4734000"/>
              <a:ext cx="1061280" cy="5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hospholip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ilay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732480" y="2917800"/>
              <a:ext cx="1553760" cy="5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ydrophobic reg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prote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484080" y="6024600"/>
              <a:ext cx="21920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ydrophobic region of prote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21000" y="4111560"/>
              <a:ext cx="160560" cy="1609920"/>
            </a:xfrm>
            <a:custGeom>
              <a:avLst/>
              <a:gdLst>
                <a:gd name="textAreaLeft" fmla="*/ 102600 w 160560"/>
                <a:gd name="textAreaRight" fmla="*/ 160920 w 160560"/>
                <a:gd name="textAreaTop" fmla="*/ 41760 h 1609920"/>
                <a:gd name="textAreaBottom" fmla="*/ 1568160 h 160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3133440" y="4917960"/>
              <a:ext cx="214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3982680" y="4997520"/>
              <a:ext cx="911160" cy="107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52960" y="3378240"/>
              <a:ext cx="750960" cy="912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7696080" y="6477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B726-517F-4BB8-BE2E-D0B6569CBA7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 </cp:lastModifiedBy>
  <cp:lastPrinted>2004-11-01T06:26:48Z</cp:lastPrinted>
  <dcterms:modified xsi:type="dcterms:W3CDTF">2006-10-22T21:51:14Z</dcterms:modified>
  <cp:revision>1157</cp:revision>
  <dc:subject/>
  <dc:title>video slide</dc:title>
</cp:coreProperties>
</file>